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6B3EB-355C-4C73-B587-70807221F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EC7DB-EBA1-4004-8A48-B0D839C69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52919-C145-4FE8-9479-63298C6AB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DD555-9B8B-41E7-88EE-FDB3F7645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7A878-3341-4C67-8580-AF28E5EA9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CBCD9-FBB5-4E51-951F-1C6CF9036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B2BE9-A03F-4658-B85D-58B10D9EB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CCB01-AF9B-4D7E-8860-784DFEA57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E9D6B-6461-4235-9289-43E6EE049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52A1A-2FEC-487D-BBB9-CB2888C79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7B11C-C586-4052-ABF2-3C216D2C3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C3171-3628-4B54-A428-5B99A523A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D293E-CB57-4774-9505-3182F55C668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69960" y="905040"/>
            <a:ext cx="7796160" cy="4930560"/>
            <a:chOff x="669960" y="905040"/>
            <a:chExt cx="7796160" cy="4930560"/>
          </a:xfrm>
        </p:grpSpPr>
        <p:sp>
          <p:nvSpPr>
            <p:cNvPr id="42" name=""/>
            <p:cNvSpPr/>
            <p:nvPr/>
          </p:nvSpPr>
          <p:spPr>
            <a:xfrm>
              <a:off x="669960" y="905040"/>
              <a:ext cx="7796160" cy="4930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868560" y="1273320"/>
              <a:ext cx="1400400" cy="5061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Highways Agenc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4" name=""/>
            <p:cNvCxnSpPr/>
            <p:nvPr/>
          </p:nvCxnSpPr>
          <p:spPr>
            <a:xfrm>
              <a:off x="4087440" y="1836720"/>
              <a:ext cx="1080" cy="7372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</p:cxnSp>
        <p:sp>
          <p:nvSpPr>
            <p:cNvPr id="45" name=""/>
            <p:cNvSpPr/>
            <p:nvPr/>
          </p:nvSpPr>
          <p:spPr>
            <a:xfrm>
              <a:off x="2797200" y="4368960"/>
              <a:ext cx="952560" cy="360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ontracto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048120" y="1947960"/>
              <a:ext cx="9874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ncession Agreemen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112160" y="3622680"/>
              <a:ext cx="8776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oan Agreemen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288040" y="4606920"/>
              <a:ext cx="1104840" cy="5554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Investor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463760" y="2552760"/>
              <a:ext cx="6200640" cy="603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oncessionaire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57360" y="3622680"/>
              <a:ext cx="10764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esign and Construction Agreemen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302000" y="4498920"/>
              <a:ext cx="87804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hareholder Agreemen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057640" y="1947960"/>
              <a:ext cx="11019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hadow Toll Agreemen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035680" y="1795320"/>
              <a:ext cx="4680" cy="752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797200" y="5025960"/>
              <a:ext cx="952560" cy="360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Operato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006880" y="3622680"/>
              <a:ext cx="87804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inancing Agreemen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" name=""/>
            <p:cNvCxnSpPr>
              <a:stCxn id="54" idx="3"/>
              <a:endCxn id="48" idx="1"/>
            </p:cNvCxnSpPr>
            <p:nvPr/>
          </p:nvCxnSpPr>
          <p:spPr>
            <a:xfrm flipV="1">
              <a:off x="3749760" y="4884480"/>
              <a:ext cx="1538640" cy="321840"/>
            </a:xfrm>
            <a:prstGeom prst="bentConnector3">
              <a:avLst>
                <a:gd name="adj1" fmla="val 50409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7" name=""/>
            <p:cNvCxnSpPr>
              <a:stCxn id="45" idx="3"/>
              <a:endCxn id="48" idx="1"/>
            </p:cNvCxnSpPr>
            <p:nvPr/>
          </p:nvCxnSpPr>
          <p:spPr>
            <a:xfrm>
              <a:off x="3749760" y="4548960"/>
              <a:ext cx="1538640" cy="335880"/>
            </a:xfrm>
            <a:prstGeom prst="bentConnector3">
              <a:avLst>
                <a:gd name="adj1" fmla="val 50409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8" name=""/>
            <p:cNvCxnSpPr>
              <a:stCxn id="54" idx="1"/>
              <a:endCxn id="59" idx="2"/>
            </p:cNvCxnSpPr>
            <p:nvPr/>
          </p:nvCxnSpPr>
          <p:spPr>
            <a:xfrm rot="10800000">
              <a:off x="2042640" y="3146040"/>
              <a:ext cx="754560" cy="2059920"/>
            </a:xfrm>
            <a:prstGeom prst="bentConnector2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9" name=""/>
            <p:cNvSpPr/>
            <p:nvPr/>
          </p:nvSpPr>
          <p:spPr>
            <a:xfrm>
              <a:off x="1886040" y="2933640"/>
              <a:ext cx="314280" cy="212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305080" y="2933640"/>
              <a:ext cx="314280" cy="212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1" name=""/>
            <p:cNvCxnSpPr>
              <a:stCxn id="45" idx="1"/>
              <a:endCxn id="60" idx="2"/>
            </p:cNvCxnSpPr>
            <p:nvPr/>
          </p:nvCxnSpPr>
          <p:spPr>
            <a:xfrm rot="10800000">
              <a:off x="2461680" y="3146400"/>
              <a:ext cx="335520" cy="1402920"/>
            </a:xfrm>
            <a:prstGeom prst="bentConnector2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2" name=""/>
            <p:cNvSpPr/>
            <p:nvPr/>
          </p:nvSpPr>
          <p:spPr>
            <a:xfrm>
              <a:off x="5683320" y="2933640"/>
              <a:ext cx="314280" cy="212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559560" y="4606920"/>
              <a:ext cx="1104840" cy="5554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Lender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954840" y="2933640"/>
              <a:ext cx="314280" cy="212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" name=""/>
            <p:cNvCxnSpPr>
              <a:stCxn id="48" idx="0"/>
              <a:endCxn id="62" idx="2"/>
            </p:cNvCxnSpPr>
            <p:nvPr/>
          </p:nvCxnSpPr>
          <p:spPr>
            <a:xfrm rot="16200000">
              <a:off x="5110200" y="3876480"/>
              <a:ext cx="1460880" cy="360"/>
            </a:xfrm>
            <a:prstGeom prst="bentConnector2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6" name=""/>
            <p:cNvCxnSpPr>
              <a:stCxn id="63" idx="0"/>
              <a:endCxn id="64" idx="2"/>
            </p:cNvCxnSpPr>
            <p:nvPr/>
          </p:nvCxnSpPr>
          <p:spPr>
            <a:xfrm rot="16200000">
              <a:off x="6381720" y="3876480"/>
              <a:ext cx="1460880" cy="360"/>
            </a:xfrm>
            <a:prstGeom prst="bentConnector2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7" name=""/>
            <p:cNvSpPr/>
            <p:nvPr/>
          </p:nvSpPr>
          <p:spPr>
            <a:xfrm>
              <a:off x="1000080" y="3622680"/>
              <a:ext cx="10764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perating and Maintenance Agreemen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284040" y="1320840"/>
            <a:ext cx="6435720" cy="3720960"/>
            <a:chOff x="284040" y="1320840"/>
            <a:chExt cx="6435720" cy="3720960"/>
          </a:xfrm>
        </p:grpSpPr>
        <p:sp>
          <p:nvSpPr>
            <p:cNvPr id="69" name=""/>
            <p:cNvSpPr/>
            <p:nvPr/>
          </p:nvSpPr>
          <p:spPr>
            <a:xfrm>
              <a:off x="3736800" y="2071800"/>
              <a:ext cx="444600" cy="914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84040" y="1320840"/>
              <a:ext cx="6435720" cy="3720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6120" y="2057400"/>
              <a:ext cx="1400040" cy="5540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Gatty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Engineer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859120" y="2057400"/>
              <a:ext cx="1285920" cy="5554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ogeneration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ompan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848120" y="2940120"/>
              <a:ext cx="9874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imited Partn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060640" y="2128680"/>
              <a:ext cx="99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har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502080" y="2690640"/>
              <a:ext cx="9046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General Partn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643040" y="2655720"/>
              <a:ext cx="1127160" cy="733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241880" y="2630520"/>
              <a:ext cx="1193760" cy="75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844880" y="2057400"/>
              <a:ext cx="1390680" cy="5540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Johnson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Energ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825640" y="3395520"/>
              <a:ext cx="1352520" cy="908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ogener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roj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artnership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02080" y="2617920"/>
              <a:ext cx="0" cy="76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209680" y="2335320"/>
              <a:ext cx="652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 flipH="1">
              <a:off x="4135320" y="2335320"/>
              <a:ext cx="712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027320" y="2128680"/>
              <a:ext cx="992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har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200240" y="2940120"/>
              <a:ext cx="9874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imited Partn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40" y="3610080"/>
              <a:ext cx="1400040" cy="5540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assive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Equity Investor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171880" y="3903840"/>
              <a:ext cx="657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971720" y="3521160"/>
              <a:ext cx="9874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imited Partn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997520" y="3583080"/>
              <a:ext cx="1400040" cy="5540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Long-term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Lender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127400" y="3568680"/>
              <a:ext cx="987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ebt servic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237200" y="3795840"/>
              <a:ext cx="768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192560" y="4033800"/>
              <a:ext cx="768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145040" y="3825720"/>
              <a:ext cx="987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eb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085840" y="2303640"/>
              <a:ext cx="99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0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079880" y="2316240"/>
              <a:ext cx="99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0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838600" y="2781360"/>
              <a:ext cx="99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175360" y="2938320"/>
              <a:ext cx="99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2.22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920880" y="2943360"/>
              <a:ext cx="99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2.22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965240" y="3906720"/>
              <a:ext cx="99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5.56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" name=""/>
          <p:cNvGrpSpPr/>
          <p:nvPr/>
        </p:nvGrpSpPr>
        <p:grpSpPr>
          <a:xfrm>
            <a:off x="379440" y="2405160"/>
            <a:ext cx="6435720" cy="4225680"/>
            <a:chOff x="379440" y="2405160"/>
            <a:chExt cx="6435720" cy="4225680"/>
          </a:xfrm>
        </p:grpSpPr>
        <p:sp>
          <p:nvSpPr>
            <p:cNvPr id="100" name=""/>
            <p:cNvSpPr/>
            <p:nvPr/>
          </p:nvSpPr>
          <p:spPr>
            <a:xfrm>
              <a:off x="3736800" y="3873600"/>
              <a:ext cx="444600" cy="914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79440" y="2405160"/>
              <a:ext cx="6435720" cy="4225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806560" y="2649600"/>
              <a:ext cx="1400400" cy="506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Gatty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Engineer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3" name=""/>
            <p:cNvCxnSpPr>
              <a:stCxn id="102" idx="2"/>
              <a:endCxn id="104" idx="0"/>
            </p:cNvCxnSpPr>
            <p:nvPr/>
          </p:nvCxnSpPr>
          <p:spPr>
            <a:xfrm>
              <a:off x="3506400" y="3155760"/>
              <a:ext cx="3960" cy="7178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5" name=""/>
            <p:cNvSpPr/>
            <p:nvPr/>
          </p:nvSpPr>
          <p:spPr>
            <a:xfrm>
              <a:off x="660240" y="4071960"/>
              <a:ext cx="1095480" cy="5554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oal M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790640" y="4348080"/>
              <a:ext cx="1047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841400" y="3952800"/>
              <a:ext cx="87804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al Supply Agreemen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514600" y="3265560"/>
              <a:ext cx="9874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nstruction Contrac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179960" y="4505400"/>
              <a:ext cx="9921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perating Contrac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257720" y="3587760"/>
              <a:ext cx="9046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lectricity Purchase Agreemen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02080" y="4780080"/>
              <a:ext cx="0" cy="103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5141880"/>
              <a:ext cx="8776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team Purchase Agreemen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4189320" y="4476600"/>
              <a:ext cx="997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216320" y="4137120"/>
              <a:ext cx="978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175360" y="3865680"/>
              <a:ext cx="1352520" cy="907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Johnson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Energ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040200" y="5783400"/>
              <a:ext cx="923760" cy="5554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itroc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833560" y="3873600"/>
              <a:ext cx="1352520" cy="907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ogener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roject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" name=""/>
          <p:cNvGrpSpPr/>
          <p:nvPr/>
        </p:nvGrpSpPr>
        <p:grpSpPr>
          <a:xfrm>
            <a:off x="4635360" y="3498840"/>
            <a:ext cx="4440240" cy="3324240"/>
            <a:chOff x="4635360" y="3498840"/>
            <a:chExt cx="4440240" cy="3324240"/>
          </a:xfrm>
        </p:grpSpPr>
        <p:sp>
          <p:nvSpPr>
            <p:cNvPr id="118" name=""/>
            <p:cNvSpPr/>
            <p:nvPr/>
          </p:nvSpPr>
          <p:spPr>
            <a:xfrm>
              <a:off x="4635360" y="3498840"/>
              <a:ext cx="4440240" cy="3324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337000" y="3728880"/>
              <a:ext cx="3370320" cy="241488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372280" y="4959360"/>
              <a:ext cx="80640" cy="1184400"/>
            </a:xfrm>
            <a:prstGeom prst="rect">
              <a:avLst/>
            </a:prstGeom>
            <a:gradFill rotWithShape="0">
              <a:gsLst>
                <a:gs pos="0">
                  <a:srgbClr val="9999ff"/>
                </a:gs>
                <a:gs pos="100000">
                  <a:srgbClr val="464675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602320" y="4856040"/>
              <a:ext cx="79200" cy="1287720"/>
            </a:xfrm>
            <a:prstGeom prst="rect">
              <a:avLst/>
            </a:prstGeom>
            <a:gradFill rotWithShape="0">
              <a:gsLst>
                <a:gs pos="0">
                  <a:srgbClr val="9999ff"/>
                </a:gs>
                <a:gs pos="100000">
                  <a:srgbClr val="464675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819760" y="5270400"/>
              <a:ext cx="81000" cy="873360"/>
            </a:xfrm>
            <a:prstGeom prst="rect">
              <a:avLst/>
            </a:prstGeom>
            <a:gradFill rotWithShape="0">
              <a:gsLst>
                <a:gs pos="0">
                  <a:srgbClr val="9999ff"/>
                </a:gs>
                <a:gs pos="100000">
                  <a:srgbClr val="464675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49800" y="5419800"/>
              <a:ext cx="81000" cy="723960"/>
            </a:xfrm>
            <a:prstGeom prst="rect">
              <a:avLst/>
            </a:prstGeom>
            <a:gradFill rotWithShape="0">
              <a:gsLst>
                <a:gs pos="0">
                  <a:srgbClr val="9999ff"/>
                </a:gs>
                <a:gs pos="100000">
                  <a:srgbClr val="464675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269040" y="5338800"/>
              <a:ext cx="81000" cy="804960"/>
            </a:xfrm>
            <a:prstGeom prst="rect">
              <a:avLst/>
            </a:prstGeom>
            <a:gradFill rotWithShape="0">
              <a:gsLst>
                <a:gs pos="0">
                  <a:srgbClr val="9999ff"/>
                </a:gs>
                <a:gs pos="100000">
                  <a:srgbClr val="464675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499080" y="5235480"/>
              <a:ext cx="81000" cy="908280"/>
            </a:xfrm>
            <a:prstGeom prst="rect">
              <a:avLst/>
            </a:prstGeom>
            <a:gradFill rotWithShape="0">
              <a:gsLst>
                <a:gs pos="0">
                  <a:srgbClr val="9999ff"/>
                </a:gs>
                <a:gs pos="100000">
                  <a:srgbClr val="464675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716880" y="5143680"/>
              <a:ext cx="80640" cy="1000080"/>
            </a:xfrm>
            <a:prstGeom prst="rect">
              <a:avLst/>
            </a:prstGeom>
            <a:gradFill rotWithShape="0">
              <a:gsLst>
                <a:gs pos="0">
                  <a:srgbClr val="9999ff"/>
                </a:gs>
                <a:gs pos="100000">
                  <a:srgbClr val="464675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946920" y="5270400"/>
              <a:ext cx="81000" cy="873360"/>
            </a:xfrm>
            <a:prstGeom prst="rect">
              <a:avLst/>
            </a:prstGeom>
            <a:gradFill rotWithShape="0">
              <a:gsLst>
                <a:gs pos="0">
                  <a:srgbClr val="9999ff"/>
                </a:gs>
                <a:gs pos="100000">
                  <a:srgbClr val="464675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165800" y="5154480"/>
              <a:ext cx="81000" cy="989280"/>
            </a:xfrm>
            <a:prstGeom prst="rect">
              <a:avLst/>
            </a:prstGeom>
            <a:gradFill rotWithShape="0">
              <a:gsLst>
                <a:gs pos="0">
                  <a:srgbClr val="9999ff"/>
                </a:gs>
                <a:gs pos="100000">
                  <a:srgbClr val="464675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96200" y="5029200"/>
              <a:ext cx="81000" cy="1114560"/>
            </a:xfrm>
            <a:prstGeom prst="rect">
              <a:avLst/>
            </a:prstGeom>
            <a:gradFill rotWithShape="0">
              <a:gsLst>
                <a:gs pos="0">
                  <a:srgbClr val="9999ff"/>
                </a:gs>
                <a:gs pos="100000">
                  <a:srgbClr val="464675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615080" y="4430880"/>
              <a:ext cx="79560" cy="1712880"/>
            </a:xfrm>
            <a:prstGeom prst="rect">
              <a:avLst/>
            </a:prstGeom>
            <a:gradFill rotWithShape="0">
              <a:gsLst>
                <a:gs pos="0">
                  <a:srgbClr val="9999ff"/>
                </a:gs>
                <a:gs pos="100000">
                  <a:srgbClr val="464675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843680" y="4338720"/>
              <a:ext cx="81000" cy="1805040"/>
            </a:xfrm>
            <a:prstGeom prst="rect">
              <a:avLst/>
            </a:prstGeom>
            <a:gradFill rotWithShape="0">
              <a:gsLst>
                <a:gs pos="0">
                  <a:srgbClr val="9999ff"/>
                </a:gs>
                <a:gs pos="100000">
                  <a:srgbClr val="464675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8062920" y="4257720"/>
              <a:ext cx="81000" cy="1886040"/>
            </a:xfrm>
            <a:prstGeom prst="rect">
              <a:avLst/>
            </a:prstGeom>
            <a:gradFill rotWithShape="0">
              <a:gsLst>
                <a:gs pos="0">
                  <a:srgbClr val="9999ff"/>
                </a:gs>
                <a:gs pos="100000">
                  <a:srgbClr val="464675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8292960" y="4154400"/>
              <a:ext cx="81000" cy="1989360"/>
            </a:xfrm>
            <a:prstGeom prst="rect">
              <a:avLst/>
            </a:prstGeom>
            <a:gradFill rotWithShape="0">
              <a:gsLst>
                <a:gs pos="0">
                  <a:srgbClr val="9999ff"/>
                </a:gs>
                <a:gs pos="100000">
                  <a:srgbClr val="464675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8512200" y="4062240"/>
              <a:ext cx="79200" cy="2081520"/>
            </a:xfrm>
            <a:prstGeom prst="rect">
              <a:avLst/>
            </a:prstGeom>
            <a:gradFill rotWithShape="0">
              <a:gsLst>
                <a:gs pos="0">
                  <a:srgbClr val="9999ff"/>
                </a:gs>
                <a:gs pos="100000">
                  <a:srgbClr val="464675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452920" y="5845320"/>
              <a:ext cx="79560" cy="29844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681520" y="5823000"/>
              <a:ext cx="69840" cy="32076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900760" y="5270400"/>
              <a:ext cx="81000" cy="87336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130800" y="5419800"/>
              <a:ext cx="68400" cy="72396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350040" y="5338800"/>
              <a:ext cx="79200" cy="80496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580080" y="5235480"/>
              <a:ext cx="68400" cy="90828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797520" y="5143680"/>
              <a:ext cx="81000" cy="100008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027920" y="5270400"/>
              <a:ext cx="69840" cy="87336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246800" y="5154480"/>
              <a:ext cx="79560" cy="98928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477200" y="5029200"/>
              <a:ext cx="68040" cy="111456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694640" y="4430880"/>
              <a:ext cx="81000" cy="171288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24680" y="4338720"/>
              <a:ext cx="69840" cy="180504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8143920" y="4257720"/>
              <a:ext cx="79200" cy="188604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8373960" y="4154400"/>
              <a:ext cx="68400" cy="198936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591400" y="4062240"/>
              <a:ext cx="81000" cy="208152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302080" y="6143760"/>
              <a:ext cx="349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302080" y="5845320"/>
              <a:ext cx="349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302080" y="5546880"/>
              <a:ext cx="349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302080" y="5235480"/>
              <a:ext cx="349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302080" y="4937040"/>
              <a:ext cx="349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302080" y="4637160"/>
              <a:ext cx="349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302080" y="4338720"/>
              <a:ext cx="349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302080" y="4027320"/>
              <a:ext cx="349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302080" y="3728880"/>
              <a:ext cx="349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>
              <a:off x="5337000" y="6143400"/>
              <a:ext cx="180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V="1">
              <a:off x="5567400" y="6143400"/>
              <a:ext cx="144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V="1">
              <a:off x="5786280" y="6143400"/>
              <a:ext cx="180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6016680" y="6143400"/>
              <a:ext cx="144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flipV="1">
              <a:off x="6234120" y="6143400"/>
              <a:ext cx="144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flipV="1">
              <a:off x="6464160" y="6143400"/>
              <a:ext cx="180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V="1">
              <a:off x="6683400" y="6143400"/>
              <a:ext cx="144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6913440" y="6143400"/>
              <a:ext cx="180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>
              <a:off x="7130880" y="6143400"/>
              <a:ext cx="180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V="1">
              <a:off x="7361280" y="6143400"/>
              <a:ext cx="144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580160" y="6143400"/>
              <a:ext cx="180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V="1">
              <a:off x="7810560" y="6143400"/>
              <a:ext cx="144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8028000" y="6143400"/>
              <a:ext cx="144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V="1">
              <a:off x="8258040" y="6143400"/>
              <a:ext cx="180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477280" y="6143400"/>
              <a:ext cx="144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V="1">
              <a:off x="8707320" y="6143400"/>
              <a:ext cx="180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073120" y="606420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002920" y="576432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.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002920" y="546588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0.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002920" y="515448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0.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002920" y="485604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002920" y="455760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0.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002920" y="425772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60.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002920" y="394812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70.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002920" y="364824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80.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417640" y="62485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635440" y="62485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865480" y="62485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084360" y="62485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314760" y="62485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533640" y="62485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762240" y="62485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992640" y="62485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211520" y="62485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407000" y="62485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625880" y="62485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856280" y="62485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073720" y="62485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8303760" y="62485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8523000" y="62485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878520" y="6489720"/>
              <a:ext cx="273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Yea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rot="16200000">
              <a:off x="4291920" y="4922640"/>
              <a:ext cx="1134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After-tax cash flow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440320" y="3844800"/>
              <a:ext cx="1150920" cy="4478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486400" y="3924360"/>
              <a:ext cx="81000" cy="81000"/>
            </a:xfrm>
            <a:prstGeom prst="rect">
              <a:avLst/>
            </a:prstGeom>
            <a:gradFill rotWithShape="0">
              <a:gsLst>
                <a:gs pos="0">
                  <a:srgbClr val="9999ff"/>
                </a:gs>
                <a:gs pos="100000">
                  <a:srgbClr val="464675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602680" y="3878280"/>
              <a:ext cx="919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imited Partner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486400" y="4143240"/>
              <a:ext cx="81000" cy="8100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601600" y="4097160"/>
              <a:ext cx="963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General Partner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635360" y="3498840"/>
              <a:ext cx="4440240" cy="332424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3T13:48:24Z</dcterms:created>
  <dc:creator>Frank Crundwell</dc:creator>
  <dc:description/>
  <dc:language>en-US</dc:language>
  <cp:lastModifiedBy>frank crundwell</cp:lastModifiedBy>
  <dcterms:modified xsi:type="dcterms:W3CDTF">2007-08-16T17:10:51Z</dcterms:modified>
  <cp:revision>23</cp:revision>
  <dc:subject/>
  <dc:title>Financial System</dc:title>
</cp:coreProperties>
</file>